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3FEF-CFAA-4904-904B-19943A1C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F02-63BE-4257-8FD9-E9BB068D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E851-82CD-4E5E-B2C5-B4069590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4727-4DAC-441E-B131-AB63D32F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0B02-2450-4C5D-815D-C97A4FB1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4BED-A206-4F38-A8BE-8C4FD739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593D-BD10-4C4B-B9DA-1F8453B7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BD9B-60D8-4B03-8351-821303CE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D266-92F5-4A57-80E5-8CD4442E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4B7A-45C8-4A33-9A57-486492C0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7D47-3093-4B73-8E25-C4D9C7EF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0315-1B49-4C7B-B8F4-BFCDE694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893E-BD5F-4EE7-86DF-4CD1D0F83B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гостях у волшеб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О ПОЖАЛОВ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ОГО НИЧЕГО В ПРИРОДЕ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ЗДЕСЬ, НИ ТАМ В КОСМИЧЕСКИХ ГЛУБИНА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Ё - ОТ ПЕСЧИНОК МАЛЫХ – ДО ПЛА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ЭЛЕМЕНТОВ СОСТОИТ ЕДИНЫ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ФОРМУЛА, КАК ГРАФИК ТРУДОВ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Й МЕНДЕЛЕЕВСКОЙ СИСТЕМЫ СТРОГ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КРУГ ТЕБЯ ТВОРИТСЯ МИР ЖИВ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ХОДИ В НЕГО, ВДЫХАЙ, РУКАМИ ТРОГ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43160"/>
            <a:chOff x="0" y="0"/>
            <a:chExt cx="9144000" cy="674316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25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322640" y="6344280"/>
              <a:ext cx="650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Макет химической лаборатории М.В.Ломоносов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уку сидит 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ыхает 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поги мои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пускают 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его все знаю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газине покуп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него не сваришь ужин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лых дозах в блюдах нуж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лакон с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бычно имеется в каждой кварт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рожденья ребёнок любой с ним зна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ва лишь покинет он с мамой род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о искупают в ванночке 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ь он для дезинфекции незамен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за чудо посмотр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СаСО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доске он проезж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собой след оставля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ет у вас для те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ыхлителя, вы вместо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HCO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ите в пир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ведите с химического языка на общепринят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сё то аурум, что блес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ый, как карбонат каль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й феррум, пока горяч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 – аргентум, а молчание – аур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прумного гроша не сто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йкий станумный солдат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яжёлые плюмбумные ту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4T08:20:20Z</dcterms:created>
  <dc:creator>евросеть</dc:creator>
  <dc:description/>
  <dc:language>en-US</dc:language>
  <cp:lastModifiedBy>PC</cp:lastModifiedBy>
  <dcterms:modified xsi:type="dcterms:W3CDTF">2022-10-30T17:02:1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